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76EA-B6FA-4499-AB5B-405856D56C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744-D427-41FC-A54A-6A95E3E7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DEE-8E2C-4D29-93CF-B067148C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789-787B-4AE8-9544-1650CE54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6F4-1DA4-4ECF-9B04-5876F846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ABB-6AF5-4298-9CA1-32073992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2C5-B095-4589-9B83-426981B1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DE7-2896-4B9E-871A-E867ADA7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D96-FA98-4E99-B749-69D6C2A4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CCD-2D59-443E-AC6F-E89625DB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0F6-C40F-44A3-BB21-D120EDC0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D65-8684-428E-9D1D-E649CC1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B05-7777-4031-B4BA-E5AA415E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8E48-FE30-4E12-AABE-E5BA0DA9F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18288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666880" y="1066680"/>
            <a:ext cx="3552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40384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505320" y="1371600"/>
            <a:ext cx="217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2362320"/>
            <a:ext cx="1053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2120" y="2666880"/>
            <a:ext cx="8001000" cy="381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762120" y="5105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800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93432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043280" y="27846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650680" y="33940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937760" y="3394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991560" y="3394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44840" y="4384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823680" y="5222880"/>
            <a:ext cx="13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2652480" y="438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67080" y="430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072560" y="430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2881440" y="560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167440" y="545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7072560" y="552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838080" y="3276360"/>
            <a:ext cx="7925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000" y="240336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4114800" y="4572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048120" y="1371600"/>
            <a:ext cx="34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11800" y="2327400"/>
            <a:ext cx="80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038480" y="3429000"/>
            <a:ext cx="2438640" cy="990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733920" y="5105520"/>
            <a:ext cx="1600200" cy="1523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858000" y="0"/>
            <a:ext cx="20574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219320" y="3200400"/>
            <a:ext cx="18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85800" y="3048120"/>
            <a:ext cx="24382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974880" y="3317760"/>
            <a:ext cx="205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403520" y="3470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62120" y="380880"/>
            <a:ext cx="1904760" cy="1752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2120" y="5410080"/>
            <a:ext cx="2133360" cy="114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050480" y="55278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7010280" y="3429000"/>
            <a:ext cx="160020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146720" y="3546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7147800" y="41400"/>
            <a:ext cx="16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651720" y="55548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1128600" y="4986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3947040" y="5222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5257800" y="4876920"/>
            <a:ext cx="11430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5394240" y="491796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661500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7010280" y="4952880"/>
            <a:ext cx="18288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299000" y="514656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28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1030"/>
          <p:cNvSpPr txBox="1"/>
          <p:nvPr/>
        </p:nvSpPr>
        <p:spPr>
          <a:xfrm>
            <a:off x="289548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031"/>
          <p:cNvSpPr/>
          <p:nvPr/>
        </p:nvSpPr>
        <p:spPr>
          <a:xfrm>
            <a:off x="533520" y="20574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1066680" y="3048120"/>
            <a:ext cx="723924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335268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5867280" y="304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7"/>
          <p:cNvSpPr/>
          <p:nvPr/>
        </p:nvSpPr>
        <p:spPr>
          <a:xfrm>
            <a:off x="1203120" y="3165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8"/>
          <p:cNvSpPr/>
          <p:nvPr/>
        </p:nvSpPr>
        <p:spPr>
          <a:xfrm>
            <a:off x="3489840" y="3241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9"/>
          <p:cNvSpPr/>
          <p:nvPr/>
        </p:nvSpPr>
        <p:spPr>
          <a:xfrm>
            <a:off x="62485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028"/>
          <p:cNvSpPr txBox="1"/>
          <p:nvPr/>
        </p:nvSpPr>
        <p:spPr>
          <a:xfrm>
            <a:off x="3733920" y="4572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1029"/>
          <p:cNvSpPr txBox="1"/>
          <p:nvPr/>
        </p:nvSpPr>
        <p:spPr>
          <a:xfrm>
            <a:off x="23623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16960" y="2068560"/>
            <a:ext cx="68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19520" y="1295280"/>
            <a:ext cx="39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electricit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36560" y="2327400"/>
            <a:ext cx="811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28"/>
          <p:cNvSpPr txBox="1"/>
          <p:nvPr/>
        </p:nvSpPr>
        <p:spPr>
          <a:xfrm>
            <a:off x="3962520" y="38088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25909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203040" y="2479680"/>
            <a:ext cx="83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200400" y="1219320"/>
            <a:ext cx="2790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59880" y="2174760"/>
            <a:ext cx="84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4114800"/>
            <a:ext cx="792504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93160" y="40798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98560" y="446076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2260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762120" y="5562720"/>
            <a:ext cx="807696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893160" y="5527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0133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976680" y="5908680"/>
            <a:ext cx="58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362320" y="1295280"/>
            <a:ext cx="410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 cont`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97840" y="202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080" y="2743200"/>
            <a:ext cx="7315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63080" y="324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1148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819520" y="10666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182880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320040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1360" y="1981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38280" y="3886200"/>
            <a:ext cx="4191120" cy="2133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438280" y="31237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098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486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886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486400" y="4419720"/>
            <a:ext cx="5335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971800" y="4495680"/>
            <a:ext cx="7621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6705720" y="4876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680240" y="4689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6172200" y="28954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01160" y="27082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42670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015160" y="60609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 flipH="1" flipV="1">
            <a:off x="144792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37880" y="43848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327672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920" y="2327400"/>
            <a:ext cx="91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30200" y="209880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052"/>
          <p:cNvSpPr txBox="1"/>
          <p:nvPr/>
        </p:nvSpPr>
        <p:spPr>
          <a:xfrm>
            <a:off x="4038480" y="304920"/>
            <a:ext cx="1400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WordArt 2053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2054"/>
          <p:cNvSpPr/>
          <p:nvPr/>
        </p:nvSpPr>
        <p:spPr>
          <a:xfrm>
            <a:off x="827640" y="20988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56"/>
          <p:cNvSpPr/>
          <p:nvPr/>
        </p:nvSpPr>
        <p:spPr>
          <a:xfrm>
            <a:off x="508680" y="2860560"/>
            <a:ext cx="83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1028"/>
          <p:cNvSpPr txBox="1"/>
          <p:nvPr/>
        </p:nvSpPr>
        <p:spPr>
          <a:xfrm>
            <a:off x="3962520" y="304920"/>
            <a:ext cx="134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WordArt 1029"/>
          <p:cNvSpPr txBox="1"/>
          <p:nvPr/>
        </p:nvSpPr>
        <p:spPr>
          <a:xfrm>
            <a:off x="3276720" y="1371600"/>
            <a:ext cx="274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661680" y="2479680"/>
            <a:ext cx="80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3505320" y="4191120"/>
            <a:ext cx="4572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32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33"/>
          <p:cNvSpPr/>
          <p:nvPr/>
        </p:nvSpPr>
        <p:spPr>
          <a:xfrm flipH="1">
            <a:off x="1980720" y="51814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69988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82296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37"/>
          <p:cNvSpPr/>
          <p:nvPr/>
        </p:nvSpPr>
        <p:spPr>
          <a:xfrm flipV="1">
            <a:off x="3733920" y="4495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8"/>
          <p:cNvSpPr/>
          <p:nvPr/>
        </p:nvSpPr>
        <p:spPr>
          <a:xfrm>
            <a:off x="5316840" y="423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3124080" y="1295280"/>
            <a:ext cx="2657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360" y="2251080"/>
            <a:ext cx="836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2438280" y="1066680"/>
            <a:ext cx="4038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82480" y="1870200"/>
            <a:ext cx="751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1360" y="2022480"/>
            <a:ext cx="831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8862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21747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0560" y="27846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3429000"/>
            <a:ext cx="274320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066680" y="3505320"/>
            <a:ext cx="27432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05228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066680" y="35053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020480" y="33177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26600" y="4156200"/>
            <a:ext cx="81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4"/>
          <p:cNvSpPr/>
          <p:nvPr/>
        </p:nvSpPr>
        <p:spPr>
          <a:xfrm flipH="1" rot="10800000">
            <a:off x="571392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5"/>
          <p:cNvSpPr/>
          <p:nvPr/>
        </p:nvSpPr>
        <p:spPr>
          <a:xfrm>
            <a:off x="91440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7"/>
          <p:cNvSpPr/>
          <p:nvPr/>
        </p:nvSpPr>
        <p:spPr>
          <a:xfrm>
            <a:off x="914400" y="259092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rc 8"/>
          <p:cNvSpPr/>
          <p:nvPr/>
        </p:nvSpPr>
        <p:spPr>
          <a:xfrm flipV="1">
            <a:off x="5715000" y="2666880"/>
            <a:ext cx="1979640" cy="144792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438280" y="1219320"/>
            <a:ext cx="4038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75212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228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2514600" y="2514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108960" y="232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70866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453080" y="423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 flipV="1">
            <a:off x="66294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6309360" y="2860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19456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5014440" y="430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63840" y="47656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028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29"/>
          <p:cNvSpPr txBox="1"/>
          <p:nvPr/>
        </p:nvSpPr>
        <p:spPr>
          <a:xfrm>
            <a:off x="2819520" y="12952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457200" y="22860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905120" y="129528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1320" y="2174760"/>
            <a:ext cx="821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828800" y="114300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3920" y="2174760"/>
            <a:ext cx="7785360" cy="2654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V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98108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08360" y="2174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890640" y="3013200"/>
            <a:ext cx="75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752480" y="1219320"/>
            <a:ext cx="5467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4320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4360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118160" y="2784600"/>
            <a:ext cx="797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579760" y="17175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r>
              <a:rPr b="0" lang="en-GB" sz="4400" spc="-1" strike="noStrike">
                <a:solidFill>
                  <a:srgbClr val="03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213372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20968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814680" y="2936880"/>
            <a:ext cx="82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tled gas at 20</a:t>
            </a:r>
            <a:r>
              <a:rPr b="0" lang="en-GB" sz="3200" spc="-1" strike="noStrike" baseline="2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rol at 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veh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ffin oil at 1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jets 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sel at 2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 for tr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tumen at 35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ro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04920" y="533520"/>
            <a:ext cx="1876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315200" y="457200"/>
            <a:ext cx="1467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gh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80880" y="5715000"/>
            <a:ext cx="152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k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8077320" y="57150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981080"/>
            <a:ext cx="90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nergy photo one"/>
          <p:cNvPicPr/>
          <p:nvPr/>
        </p:nvPicPr>
        <p:blipFill>
          <a:blip r:embed="rId1"/>
          <a:stretch/>
        </p:blipFill>
        <p:spPr>
          <a:xfrm>
            <a:off x="4594320" y="380880"/>
            <a:ext cx="4197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5238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38120" y="1793880"/>
            <a:ext cx="41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4120" y="347040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0384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743200" y="114300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89920" y="2022480"/>
            <a:ext cx="783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028"/>
          <p:cNvSpPr txBox="1"/>
          <p:nvPr/>
        </p:nvSpPr>
        <p:spPr>
          <a:xfrm>
            <a:off x="3200400" y="304920"/>
            <a:ext cx="30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ypes of heat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93720" y="1695600"/>
            <a:ext cx="4923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Oval 6"/>
          <p:cNvSpPr/>
          <p:nvPr/>
        </p:nvSpPr>
        <p:spPr>
          <a:xfrm>
            <a:off x="2743200" y="2743200"/>
            <a:ext cx="4343400" cy="3657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8769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742840" y="419076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2666520" y="4876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3733560" y="4876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489840" y="3394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5668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05840" y="4384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38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880360" y="4842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186000" y="522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42320" y="369900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6"/>
          <p:cNvSpPr/>
          <p:nvPr/>
        </p:nvSpPr>
        <p:spPr>
          <a:xfrm flipV="1">
            <a:off x="6019920" y="27428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6934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172200" y="5867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9"/>
          <p:cNvSpPr/>
          <p:nvPr/>
        </p:nvSpPr>
        <p:spPr>
          <a:xfrm flipH="1" flipV="1">
            <a:off x="2742840" y="2819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14479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1"/>
          <p:cNvSpPr/>
          <p:nvPr/>
        </p:nvSpPr>
        <p:spPr>
          <a:xfrm flipH="1">
            <a:off x="2057040" y="56386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220968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09:58Z</dcterms:created>
  <dc:creator>Physics Department</dc:creator>
  <dc:description/>
  <dc:language>en-US</dc:language>
  <cp:lastModifiedBy>RomaK</cp:lastModifiedBy>
  <dcterms:modified xsi:type="dcterms:W3CDTF">2015-09-03T12:25:36Z</dcterms:modified>
  <cp:revision>48</cp:revision>
  <dc:subject/>
  <dc:title>PowerPoint Presentation</dc:title>
</cp:coreProperties>
</file>